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C3647-B901-4554-923A-D6D9AE44B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349F7-2531-47F9-B0F3-48E430B83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81EC3-6D09-4C6A-B8DC-4793ADFC1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0D8D9-AE96-46E7-A492-A8E40B89D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88F54-2986-4760-8134-F17E562E4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F5260-EE89-4ECD-9242-C89D7F482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2F9BA-1114-422E-B9A5-9CE8CC62B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B05AF-C821-4ABF-B7FA-01BDBDFF5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54A76-1F07-47A4-93D6-C12605D96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A0364-0D68-4258-B575-483560355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79605-5537-4F38-9774-C23840DCF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9EAC4-8DB3-4C2E-B1A3-019CC03CF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156EC-C7A5-4C52-B66D-26C770BFDF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360" y="5028840"/>
            <a:ext cx="88390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o Now 9-20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 can ask questions in order to comprehend tex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360" y="380880"/>
            <a:ext cx="25909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rite down two questions you have about the pictur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590920" y="0"/>
            <a:ext cx="655308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is it important to ask ques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ad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Who Is the Dark-Haired One?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To model QUESTIONING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from the beginning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the third paragraph, I ask, “Who is Lise?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 this question on a post-it and stick it to the chart paper graphic organizer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KIP to page 24.  Read the entire page and write down the TWO questions I wrote down in the packet on post-its.  Stick it on the graphic organizer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class, try to answer the ques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uestioning Graphic Organizer Answ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457200" y="1600200"/>
          <a:ext cx="8229240" cy="4525560"/>
        </p:xfrm>
        <a:graphic>
          <a:graphicData uri="http://schemas.openxmlformats.org/drawingml/2006/table">
            <a:tbl>
              <a:tblPr/>
              <a:tblGrid>
                <a:gridCol w="4114440"/>
                <a:gridCol w="4114800"/>
              </a:tblGrid>
              <a:tr h="150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o is Lise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Annemarie’s sist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Daughter of Mr. and Mrs. Johansen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1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at will the photo album prove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at the family has three daughters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at could/would have happened if the soldiers found the Star of David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32000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. Read </a:t>
            </a:r>
            <a:r>
              <a:rPr b="0" i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The Breadwinner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rite down FIVE question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in the margins (ANNOTATE).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nswer the questions in the packet.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. TURN YOUR PACKET INTO THE BIN WHEN YOU FINISH!!!!!!!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75360" y="0"/>
            <a:ext cx="7863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"/>
              </a:rPr>
              <a:t>Independent Practic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dependent Rea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you read your independent book, try to ask ques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ember to look for the answ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4T16:56:17Z</dcterms:created>
  <dc:creator>Administrator</dc:creator>
  <dc:description/>
  <dc:language>en-US</dc:language>
  <cp:lastModifiedBy>Administrator</cp:lastModifiedBy>
  <dcterms:modified xsi:type="dcterms:W3CDTF">2010-09-14T21:43:28Z</dcterms:modified>
  <cp:revision>7</cp:revision>
  <dc:subject/>
  <dc:title>Do Now 9-20 I can ask questions in order to comprehend text.</dc:title>
</cp:coreProperties>
</file>